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C86B4-1DCF-4F3B-B851-F0EC76340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werPoint </a:t>
            </a: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omogućen da pomogne treneru u podsticanju rasprave o svim sesijama kursa. Trener treba </a:t>
            </a: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da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preda formular za evaluaciju pre početka ove sesije. U nekim okolnostima može biti odgovarajuće izdavanje obrazaca za evaluaciju na početku kursa, kako bi ih delegati mogli završiti tokom kursa i kada su sesije </a:t>
            </a: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još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sveže u njihovom umu. Na kraju kursa </a:t>
            </a: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često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postoji tendencija da </a:t>
            </a: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ih učesnici 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popune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u potpunost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A8E207-13D4-4313-8528-D59DD7C876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Kao i kod svih prethodnih lekcija, ovo treba da sledi sličan obrazac sa ciljevima dnevnog reda i sesijama koji su postavljeni na početku lek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52B54B-4A31-44BC-BB00-7D1261F34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1200" spc="-1" strike="noStrike">
                <a:solidFill>
                  <a:srgbClr val="000000"/>
                </a:solidFill>
                <a:latin typeface="Calibri"/>
              </a:rPr>
              <a:t>Kao i kod svih prethodnih lekcija, ovo treba da sledi sličan obrazac sa ciljevima dnevnog reda i sesijama koji su postavljeni na početku lek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E756C-1C09-4FA8-8F8D-AB2EE26D9C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86BE5B-997D-4D0B-961D-1A954A390E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F959-0648-4D97-A9E7-3D2910A6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1B08-D4F4-4282-A08F-FEABC9CC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80FA-3F5D-455D-897D-1B1EA049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76D9-6152-42EC-AA3A-D59D3B92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968C-A9F1-4A82-992A-ADD01D53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5809-8C90-4F7A-BC80-06AAA0F4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ACC8-DE1B-47BA-9A74-B1F1D5DE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EC05-5361-4154-AAF7-9B7CB26D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3B43-F58C-4418-A091-323A61DA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BC33-CD6A-4F4A-8D5F-691461ED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6ADC-F265-44D3-A621-8A17E230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5170-6641-4F31-B38B-99345A82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053E4B-4B8C-4873-B45D-58B41A850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4371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</a:t>
            </a:r>
            <a:r>
              <a:rPr b="0" lang="sr-Latn-BA" sz="3200" spc="-1" strike="noStrike">
                <a:solidFill>
                  <a:srgbClr val="898989"/>
                </a:solidFill>
                <a:latin typeface="Calibri"/>
              </a:rPr>
              <a:t>ja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1.4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3200" spc="-1" strike="noStrike">
                <a:solidFill>
                  <a:srgbClr val="898989"/>
                </a:solidFill>
                <a:latin typeface="Calibri"/>
              </a:rPr>
              <a:t>Završetak kur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685800" y="2208240"/>
            <a:ext cx="7772400" cy="20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4300" spc="-1" strike="noStrike">
                <a:solidFill>
                  <a:srgbClr val="000000"/>
                </a:solidFill>
                <a:latin typeface="Calibri"/>
              </a:rPr>
              <a:t>Uvodna obuka o internet kriminalu</a:t>
            </a:r>
            <a:r>
              <a:rPr b="0" lang="en-GB" sz="43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BA" sz="4300" spc="-1" strike="noStrike">
                <a:solidFill>
                  <a:srgbClr val="000000"/>
                </a:solidFill>
                <a:latin typeface="Calibri"/>
              </a:rPr>
              <a:t>elektronskim dokazima i prihodima od internet kriminala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234800"/>
            <a:ext cx="8093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Calibri (Body)"/>
              </a:rPr>
              <a:t>Na kraju ove sesije učesnici će moći</a:t>
            </a:r>
            <a:r>
              <a:rPr b="0" lang="sr-Latn-BA" sz="2800" spc="-1" strike="noStrike">
                <a:solidFill>
                  <a:srgbClr val="000000"/>
                </a:solidFill>
                <a:latin typeface="Calibri (Body)"/>
              </a:rPr>
              <a:t> d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Obezbede odgovarajuće povratne informacije o kursu i njegovoj efikas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Popune obrazac za evaluaciju kur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Calibri (Body)"/>
              </a:rPr>
              <a:t>Utvrde sledeći nivo učenja koj</a:t>
            </a:r>
            <a:r>
              <a:rPr b="0" lang="sr-Latn-BA" sz="2800" spc="-1" strike="noStrike">
                <a:solidFill>
                  <a:srgbClr val="000000"/>
                </a:solidFill>
                <a:latin typeface="Calibri (Body)"/>
              </a:rPr>
              <a:t>i je neophodan</a:t>
            </a:r>
            <a:r>
              <a:rPr b="0" lang="vi-VN" sz="2800" spc="-1" strike="noStrike">
                <a:solidFill>
                  <a:srgbClr val="000000"/>
                </a:solidFill>
                <a:latin typeface="Calibri (Body)"/>
              </a:rPr>
              <a:t> kako bi poboljšali svoje znanje i veštine u predme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BA" sz="4400" spc="-1" strike="noStrike">
                <a:solidFill>
                  <a:srgbClr val="000000"/>
                </a:solidFill>
                <a:latin typeface="Calibri"/>
              </a:rPr>
              <a:t>Cilejvi ses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BA" sz="4400" spc="-1" strike="noStrike">
                <a:solidFill>
                  <a:srgbClr val="000000"/>
                </a:solidFill>
                <a:latin typeface="Calibri"/>
              </a:rPr>
              <a:t>Dnevni 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68440" y="2076480"/>
          <a:ext cx="8020080" cy="4311720"/>
        </p:xfrm>
        <a:graphic>
          <a:graphicData uri="http://schemas.openxmlformats.org/drawingml/2006/table">
            <a:tbl>
              <a:tblPr/>
              <a:tblGrid>
                <a:gridCol w="8020080"/>
              </a:tblGrid>
              <a:tr h="861840">
                <a:tc>
                  <a:txBody>
                    <a:bodyPr lIns="68760" rIns="68760" tIns="17640" bIns="17640" anchor="ctr">
                      <a:noAutofit/>
                    </a:bodyPr>
                    <a:p>
                      <a:pPr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varanje kursa, uvod i prezentacija ciljeva i sadržaja obu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68760" rIns="68760" tIns="17640" bIns="17640" anchor="ctr">
                      <a:noAutofit/>
                    </a:bodyPr>
                    <a:p>
                      <a:pPr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od u internet kriminal, pretnje, trendovi i izazov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68760" rIns="68760" tIns="17640" bIns="176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od u tehnologij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jalni članovi Budimpeštanske konvencije o internet kriminal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duralni članovi Budimpeštanske konvencije o internet kriminal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BA" sz="4400" spc="-1" strike="noStrike">
                <a:solidFill>
                  <a:srgbClr val="000000"/>
                </a:solidFill>
                <a:latin typeface="Calibri"/>
              </a:rPr>
              <a:t>Dnevni 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55480" y="1465200"/>
          <a:ext cx="8082000" cy="4838760"/>
        </p:xfrm>
        <a:graphic>
          <a:graphicData uri="http://schemas.openxmlformats.org/drawingml/2006/table">
            <a:tbl>
              <a:tblPr/>
              <a:tblGrid>
                <a:gridCol w="8082000"/>
              </a:tblGrid>
              <a:tr h="735120">
                <a:tc>
                  <a:txBody>
                    <a:bodyPr lIns="68760" rIns="68760" tIns="17640" bIns="17640" anchor="ctr">
                      <a:noAutofit/>
                    </a:bodyPr>
                    <a:p>
                      <a:pPr marL="228600" indent="-228600" algn="just"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od u finasijske ist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</a:t>
                      </a: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n</a:t>
                      </a: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i dokazi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</a:t>
                      </a: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ksa i postup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68760" rIns="68760" tIns="17640" bIns="176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đunarodna saradnja i saradnja javnog i privatnog sekto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68760" rIns="68760" tIns="17640" bIns="17640" anchor="ctr">
                      <a:noAutofit/>
                    </a:bodyPr>
                    <a:p>
                      <a:pPr marL="228600" indent="-228600" algn="just"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</a:t>
                      </a: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kovanje osumnjičenih na interne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68760" rIns="68760" tIns="17640" bIns="17640" anchor="ctr">
                      <a:noAutofit/>
                    </a:bodyPr>
                    <a:p>
                      <a:pPr marL="228600" indent="-228600" algn="just"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kovi novca od internet kriminala i njihova tipologi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000">
                <a:tc>
                  <a:txBody>
                    <a:bodyPr lIns="68760" rIns="68760" tIns="17640" bIns="1764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ratne informacije od učesnika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tanja i odgovo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ela sertifik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sr-Latn-B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vršna re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BA" sz="3600" spc="-1" strike="noStrike">
                <a:solidFill>
                  <a:srgbClr val="000000"/>
                </a:solidFill>
                <a:latin typeface="Calibri"/>
              </a:rPr>
              <a:t>Obrasci za evaluacij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Zahteva ga SE za evaluaci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Koristi se za poboljšanje kursa u buduć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Korisni su samo ako ih popun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Molimo da popunite i predate tren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3079080" y="4500720"/>
            <a:ext cx="21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BA" sz="5400" spc="-1" strike="noStrike">
                <a:solidFill>
                  <a:srgbClr val="000000"/>
                </a:solidFill>
                <a:latin typeface="Calibri"/>
              </a:rPr>
              <a:t>Pitan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1:04:42Z</dcterms:created>
  <dc:creator>Nigel Jones</dc:creator>
  <dc:description/>
  <dc:language>en-US</dc:language>
  <cp:lastModifiedBy>Aleksandra</cp:lastModifiedBy>
  <dcterms:modified xsi:type="dcterms:W3CDTF">2017-10-10T14:28:49Z</dcterms:modified>
  <cp:revision>37</cp:revision>
  <dc:subject/>
  <dc:title>Introductory Cybercrime Training for Judges and Prosecutors</dc:title>
</cp:coreProperties>
</file>